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the question with an elbow partner.  Then open the discussion to the group.  Can you give descriptive feedback to the students in the same way if the student needs assistance with content (e.g., multiplicative thinking) rather than process (e.g., communication)? Discuss:  What  does content feedback look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13D3F-8777-4661-9BF3-C89B23F1F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C22B1-D0DD-4C41-86CC-07E83E1D2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84E66B-5577-4B75-BBAC-9158CC531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A9DB3-9C97-46A0-B87C-D0BD61561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81551-C435-44B1-810E-E23A8C56C4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E8F5-B103-4529-B797-A06AB5D57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486AA-7FFF-4BC4-81E9-045557292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959B2AC-784A-45E7-A50E-E5D87AF3E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96E4F3-73F9-4DCA-877E-82B717BD0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6FB35-4775-4A14-BF77-1A1B3C236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12F81-03DE-424D-B8C6-B4196EF33A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C5D59-D2F3-4615-8017-F91A21B39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CCF7-137B-49FA-BCCA-D86D0FBABB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FEEA-AF51-4DD8-B6F8-FC89E7AD5B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5" name="PlaceHolder 2"/>
          <p:cNvSpPr>
            <a:spLocks noGrp="1"/>
          </p:cNvSpPr>
          <p:nvPr>
            <p:ph/>
          </p:nvPr>
        </p:nvSpPr>
        <p:spPr>
          <a:xfrm>
            <a:off x="380880" y="129492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listed for your gra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viewing guide to assist you in viewing the segm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K and the 2/3 groups have finished viewing and discussing their videos, you will share your findings with the rest of your team.</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E76F-51BC-40AC-8D9D-676607C5B5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students to your te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your students can do, where they are on the multiplicative thinking continuum and what you think your students need (content/process).</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7E44-BE31-4B6B-A32F-80B58CA0AA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problem solve together the answer to the questio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am I going to do with these student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morrow?</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C4BA-ED38-43B5-8E48-14E9529BBA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9F14-2752-4AC6-8585-9A5F4E135D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87"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F257-7206-4ADF-9544-8D68CBD518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A794-1A7A-4031-8CC6-34662B94D7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E805-C823-4D1B-B11C-3FEDCC7C63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A196-B70C-47AB-9546-CDAD928CF5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A4E4-87E7-4CA3-B942-6CA8EE5736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9F9B-8E78-4FA5-9E29-F6FE71C74A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Rectangle 2" descr=""/>
          <p:cNvPicPr/>
          <p:nvPr/>
        </p:nvPicPr>
        <p:blipFill>
          <a:blip r:embed="rId1"/>
          <a:stretch/>
        </p:blipFill>
        <p:spPr>
          <a:xfrm>
            <a:off x="2514600" y="2057400"/>
            <a:ext cx="4059360" cy="301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221B-1415-4811-8F7F-5B70F6571E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se samples of criteria and feedback?</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s, using this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497B-7508-43AD-A041-8321125F85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FA20-8DCE-4744-93C8-E89991A00C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
          <p:cNvSpPr txBox="1"/>
          <p:nvPr/>
        </p:nvSpPr>
        <p:spPr>
          <a:xfrm>
            <a:off x="743040" y="3112920"/>
            <a:ext cx="7657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about content feedback?</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examine student interviews  of proportional reasoning tasks for:</a:t>
            </a:r>
            <a:endParaRPr b="0" lang="en-US" sz="32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additive thinking </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multiplicative thinking</a:t>
            </a:r>
            <a:endParaRPr b="0" lang="en-US" sz="2400" spc="-1" strike="noStrike">
              <a:solidFill>
                <a:srgbClr val="000000"/>
              </a:solidFill>
              <a:latin typeface="Arial"/>
            </a:endParaRPr>
          </a:p>
          <a:p>
            <a:pPr lvl="2"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rainstorm possible teacher actions</a:t>
            </a:r>
            <a:endParaRPr b="0" lang="en-US" sz="3200" spc="-1" strike="noStrike">
              <a:solidFill>
                <a:srgbClr val="000000"/>
              </a:solidFill>
              <a:latin typeface="Arial"/>
            </a:endParaRPr>
          </a:p>
          <a:p>
            <a:pPr lvl="2"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39ED-CEE3-400E-B9DB-D055B33AAC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7T02:53:14Z</dcterms:modified>
  <cp:revision>56</cp:revision>
  <dc:subject/>
  <dc:title>&lt;Title&gt;</dc:title>
</cp:coreProperties>
</file>